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5867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562720" y="160200"/>
            <a:ext cx="358128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51400" y="62024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DA01570-555A-4912-8A92-2B28BE74D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63360"/>
            <a:ext cx="1066680" cy="6987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6" name="deptofmathematics" descr=""/>
          <p:cNvPicPr/>
          <p:nvPr/>
        </p:nvPicPr>
        <p:blipFill>
          <a:blip r:embed="rId4"/>
          <a:stretch/>
        </p:blipFill>
        <p:spPr>
          <a:xfrm>
            <a:off x="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7" name="deptofmathematics" descr=""/>
          <p:cNvPicPr/>
          <p:nvPr/>
        </p:nvPicPr>
        <p:blipFill>
          <a:blip r:embed="rId5"/>
          <a:stretch/>
        </p:blipFill>
        <p:spPr>
          <a:xfrm>
            <a:off x="2286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8" name="deptofmathematics" descr=""/>
          <p:cNvPicPr/>
          <p:nvPr/>
        </p:nvPicPr>
        <p:blipFill>
          <a:blip r:embed="rId6"/>
          <a:stretch/>
        </p:blipFill>
        <p:spPr>
          <a:xfrm>
            <a:off x="6858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9" name="deptofmathematics" descr=""/>
          <p:cNvPicPr/>
          <p:nvPr/>
        </p:nvPicPr>
        <p:blipFill>
          <a:blip r:embed="rId7"/>
          <a:stretch/>
        </p:blipFill>
        <p:spPr>
          <a:xfrm>
            <a:off x="4572000" y="6539040"/>
            <a:ext cx="228600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6.wmf"/><Relationship Id="rId12" Type="http://schemas.openxmlformats.org/officeDocument/2006/relationships/image" Target="../media/image6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6.wmf"/><Relationship Id="rId19" Type="http://schemas.openxmlformats.org/officeDocument/2006/relationships/image" Target="../media/image6.wmf"/><Relationship Id="rId20" Type="http://schemas.openxmlformats.org/officeDocument/2006/relationships/image" Target="../media/image6.wmf"/><Relationship Id="rId21" Type="http://schemas.openxmlformats.org/officeDocument/2006/relationships/image" Target="../media/image6.wmf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Fast and Tractable Disease Detection Technique Using Principal Component Analysi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0920" y="5257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avid Peterson &amp; Michael Vodhanel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Advisor:  Dr. Charles H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1752480"/>
            <a:ext cx="2895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 generated for normal and tumorous tissue samp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tended to be normally distribu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distribution curves ar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positive, sample is almost certainly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negative, there is approximately a 25% chance that the sample is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liver_normalDist1" descr=""/>
          <p:cNvPicPr/>
          <p:nvPr/>
        </p:nvPicPr>
        <p:blipFill>
          <a:blip r:embed="rId1"/>
          <a:srcRect l="5207" t="2776" r="7294" b="2776"/>
          <a:stretch/>
        </p:blipFill>
        <p:spPr>
          <a:xfrm>
            <a:off x="152280" y="1143000"/>
            <a:ext cx="5943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ability of Cancer vs. Projec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49" name="hmm_cancerProb" descr=""/>
          <p:cNvPicPr/>
          <p:nvPr/>
        </p:nvPicPr>
        <p:blipFill>
          <a:blip r:embed="rId1"/>
          <a:srcRect l="5557" t="2225" r="6669" b="2966"/>
          <a:stretch/>
        </p:blipFill>
        <p:spPr>
          <a:xfrm>
            <a:off x="1371600" y="114300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Principal Component Analysis techniques to DNA microarray data can be used as a basis for simple disease detection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 was demonstrated using data from Chen’s liver cancer study, although the method is general and could be applied to any type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se study presented in this analysis showed that the method could be prone to false negatives;  i.e., in the Chen liver cancer study 25% of the tumorous samples had negative proj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liability of the method might be achieved by including more components, other than just the principal component, in th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5410080"/>
            <a:ext cx="838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Acknowledgement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: This research was funded by the California State University Fullerton Faculty Research Program and by the State Special Fund for Research, Scholarly, and Creative Activities.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Dr. Charles H. Lee and David Peterson would like to  thank Prof. 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  <a:ea typeface="Arial"/>
              </a:rPr>
              <a:t>Janey Youngblom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(CSU Stanislaus) for introducing us to DNA Microarrays through the DNA Microarray Workshop sponsored by the California State University Program for Education and Research in Biotechnology (CSUPER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17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DNA microarray data from diseased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Principal Component Analysis (PCA) techniques to extract the primary component of the diseased samples (captures the diseased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imple disease detection tests by finding the projection of arbitrary samples onto the princip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38680" y="4419720"/>
            <a:ext cx="3429000" cy="2057400"/>
            <a:chOff x="5638680" y="4419720"/>
            <a:chExt cx="3429000" cy="2057400"/>
          </a:xfrm>
        </p:grpSpPr>
        <p:pic>
          <p:nvPicPr>
            <p:cNvPr id="52" name="ph01645j" descr=""/>
            <p:cNvPicPr/>
            <p:nvPr/>
          </p:nvPicPr>
          <p:blipFill>
            <a:blip r:embed="rId1"/>
            <a:stretch/>
          </p:blipFill>
          <p:spPr>
            <a:xfrm>
              <a:off x="6400800" y="5257800"/>
              <a:ext cx="66816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bd05011_" descr=""/>
            <p:cNvPicPr/>
            <p:nvPr/>
          </p:nvPicPr>
          <p:blipFill>
            <a:blip r:embed="rId2"/>
            <a:stretch/>
          </p:blipFill>
          <p:spPr>
            <a:xfrm>
              <a:off x="5638680" y="5791320"/>
              <a:ext cx="59076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bd07248_" descr=""/>
            <p:cNvPicPr/>
            <p:nvPr/>
          </p:nvPicPr>
          <p:blipFill>
            <a:blip r:embed="rId3"/>
            <a:stretch/>
          </p:blipFill>
          <p:spPr>
            <a:xfrm>
              <a:off x="7696080" y="47242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7467480" y="4419720"/>
              <a:ext cx="1600200" cy="1295280"/>
            </a:xfrm>
            <a:prstGeom prst="cloudCallout">
              <a:avLst>
                <a:gd name="adj1" fmla="val -77282"/>
                <a:gd name="adj2" fmla="val 2132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bd07248_" descr=""/>
            <p:cNvPicPr/>
            <p:nvPr/>
          </p:nvPicPr>
          <p:blipFill>
            <a:blip r:embed="rId4"/>
            <a:stretch/>
          </p:blipFill>
          <p:spPr>
            <a:xfrm>
              <a:off x="5638680" y="49528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638680" y="1219320"/>
            <a:ext cx="3124440" cy="3047760"/>
            <a:chOff x="5638680" y="1219320"/>
            <a:chExt cx="3124440" cy="3047760"/>
          </a:xfrm>
        </p:grpSpPr>
        <p:grpSp>
          <p:nvGrpSpPr>
            <p:cNvPr id="58" name=""/>
            <p:cNvGrpSpPr/>
            <p:nvPr/>
          </p:nvGrpSpPr>
          <p:grpSpPr>
            <a:xfrm>
              <a:off x="5638680" y="1219320"/>
              <a:ext cx="3124440" cy="3047760"/>
              <a:chOff x="5638680" y="1219320"/>
              <a:chExt cx="3124440" cy="3047760"/>
            </a:xfrm>
          </p:grpSpPr>
          <p:pic>
            <p:nvPicPr>
              <p:cNvPr id="5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791320" y="129528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94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4320" y="350532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171840" y="2666880"/>
                <a:ext cx="22107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ncipal Component Analy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8880" y="213372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38880" y="297180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38680" y="1219320"/>
                <a:ext cx="3124440" cy="304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318800" y="124128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begin with a series of “snapshot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Mathematics of the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342900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1752480"/>
                <a:ext cx="1067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486400"/>
                <a:ext cx="3689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280" y="2362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principal compon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ear combination of the snapshot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eighting facto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ighting factors can be shown to be the components of the primary eigenvector of the covariance matri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on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05520" y="1143000"/>
            <a:ext cx="2805120" cy="3032280"/>
            <a:chOff x="5105520" y="1143000"/>
            <a:chExt cx="2805120" cy="3032280"/>
          </a:xfrm>
        </p:grpSpPr>
        <p:pic>
          <p:nvPicPr>
            <p:cNvPr id="76" name="bd07248_" descr=""/>
            <p:cNvPicPr/>
            <p:nvPr/>
          </p:nvPicPr>
          <p:blipFill>
            <a:blip r:embed="rId1"/>
            <a:stretch/>
          </p:blipFill>
          <p:spPr>
            <a:xfrm>
              <a:off x="6248520" y="350532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7" name="bd07248_" descr=""/>
            <p:cNvPicPr/>
            <p:nvPr/>
          </p:nvPicPr>
          <p:blipFill>
            <a:blip r:embed="rId2"/>
            <a:stretch/>
          </p:blipFill>
          <p:spPr>
            <a:xfrm>
              <a:off x="5105520" y="119700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8" name="bd07248_" descr=""/>
            <p:cNvPicPr/>
            <p:nvPr/>
          </p:nvPicPr>
          <p:blipFill>
            <a:blip r:embed="rId3"/>
            <a:stretch/>
          </p:blipFill>
          <p:spPr>
            <a:xfrm>
              <a:off x="73152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9" name="bd07248_" descr=""/>
            <p:cNvPicPr/>
            <p:nvPr/>
          </p:nvPicPr>
          <p:blipFill>
            <a:blip r:embed="rId4"/>
            <a:stretch/>
          </p:blipFill>
          <p:spPr>
            <a:xfrm>
              <a:off x="59436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6633000" y="11430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2200" y="2438280"/>
              <a:ext cx="76212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1905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9051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93396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308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400800" y="2543040"/>
                  <a:ext cx="417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7248600" y="205740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4880" y="20574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4640" y="19051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279360"/>
            <a:ext cx="5867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mputational Problem for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99072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onventional POD method is O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,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 is the snapshot size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s is the number of snapshot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d07248_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3575160" cy="402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81960" y="2406600"/>
            <a:ext cx="361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Genome-scale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648320" y="1837080"/>
            <a:ext cx="4353120" cy="4182840"/>
            <a:chOff x="4648320" y="1837080"/>
            <a:chExt cx="4353120" cy="4182840"/>
          </a:xfrm>
        </p:grpSpPr>
        <p:grpSp>
          <p:nvGrpSpPr>
            <p:cNvPr id="95" name=""/>
            <p:cNvGrpSpPr/>
            <p:nvPr/>
          </p:nvGrpSpPr>
          <p:grpSpPr>
            <a:xfrm>
              <a:off x="4648320" y="2362320"/>
              <a:ext cx="3571920" cy="3657600"/>
              <a:chOff x="4648320" y="2362320"/>
              <a:chExt cx="3571920" cy="3657600"/>
            </a:xfrm>
          </p:grpSpPr>
          <p:pic>
            <p:nvPicPr>
              <p:cNvPr id="96" name="bd07248_" descr=""/>
              <p:cNvPicPr/>
              <p:nvPr/>
            </p:nvPicPr>
            <p:blipFill>
              <a:blip r:embed="rId2"/>
              <a:stretch/>
            </p:blipFill>
            <p:spPr>
              <a:xfrm>
                <a:off x="4648320" y="23623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7" name="bd07248_" descr=""/>
              <p:cNvPicPr/>
              <p:nvPr/>
            </p:nvPicPr>
            <p:blipFill>
              <a:blip r:embed="rId3"/>
              <a:stretch/>
            </p:blipFill>
            <p:spPr>
              <a:xfrm>
                <a:off x="4800600" y="25149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8" name="bd07248_" descr=""/>
              <p:cNvPicPr/>
              <p:nvPr/>
            </p:nvPicPr>
            <p:blipFill>
              <a:blip r:embed="rId4"/>
              <a:stretch/>
            </p:blipFill>
            <p:spPr>
              <a:xfrm>
                <a:off x="4953240" y="26672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9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105520" y="28195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5257800" y="29721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5410440" y="31244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5562720" y="32767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3" name="bd07248_" descr=""/>
              <p:cNvPicPr/>
              <p:nvPr/>
            </p:nvPicPr>
            <p:blipFill>
              <a:blip r:embed="rId9"/>
              <a:stretch/>
            </p:blipFill>
            <p:spPr>
              <a:xfrm>
                <a:off x="5715000" y="34293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4" name="bd07248_" descr=""/>
              <p:cNvPicPr/>
              <p:nvPr/>
            </p:nvPicPr>
            <p:blipFill>
              <a:blip r:embed="rId10"/>
              <a:stretch/>
            </p:blipFill>
            <p:spPr>
              <a:xfrm>
                <a:off x="5867640" y="35816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5" name="bd07248_" descr=""/>
              <p:cNvPicPr/>
              <p:nvPr/>
            </p:nvPicPr>
            <p:blipFill>
              <a:blip r:embed="rId11"/>
              <a:stretch/>
            </p:blipFill>
            <p:spPr>
              <a:xfrm>
                <a:off x="6019920" y="37339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6" name="bd07248_" descr=""/>
              <p:cNvPicPr/>
              <p:nvPr/>
            </p:nvPicPr>
            <p:blipFill>
              <a:blip r:embed="rId12"/>
              <a:stretch/>
            </p:blipFill>
            <p:spPr>
              <a:xfrm>
                <a:off x="6172200" y="38865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7" name="bd07248_" descr=""/>
              <p:cNvPicPr/>
              <p:nvPr/>
            </p:nvPicPr>
            <p:blipFill>
              <a:blip r:embed="rId13"/>
              <a:stretch/>
            </p:blipFill>
            <p:spPr>
              <a:xfrm>
                <a:off x="6324840" y="40388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8" name="bd07248_" descr=""/>
              <p:cNvPicPr/>
              <p:nvPr/>
            </p:nvPicPr>
            <p:blipFill>
              <a:blip r:embed="rId14"/>
              <a:stretch/>
            </p:blipFill>
            <p:spPr>
              <a:xfrm>
                <a:off x="6477120" y="41911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09" name="bd07248_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29400" y="43437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0" name="bd07248_" descr=""/>
              <p:cNvPicPr/>
              <p:nvPr/>
            </p:nvPicPr>
            <p:blipFill>
              <a:blip r:embed="rId16"/>
              <a:stretch/>
            </p:blipFill>
            <p:spPr>
              <a:xfrm>
                <a:off x="6782040" y="44960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1" name="bd07248_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34320" y="46483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2" name="bd07248_" descr=""/>
              <p:cNvPicPr/>
              <p:nvPr/>
            </p:nvPicPr>
            <p:blipFill>
              <a:blip r:embed="rId18"/>
              <a:stretch/>
            </p:blipFill>
            <p:spPr>
              <a:xfrm>
                <a:off x="7086600" y="48009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3" name="bd07248_" descr=""/>
              <p:cNvPicPr/>
              <p:nvPr/>
            </p:nvPicPr>
            <p:blipFill>
              <a:blip r:embed="rId19"/>
              <a:stretch/>
            </p:blipFill>
            <p:spPr>
              <a:xfrm>
                <a:off x="7239240" y="4953240"/>
                <a:ext cx="67608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4" name="bd07248_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91520" y="5105520"/>
                <a:ext cx="676440" cy="76212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15" name="bd07248_" descr=""/>
              <p:cNvPicPr/>
              <p:nvPr/>
            </p:nvPicPr>
            <p:blipFill>
              <a:blip r:embed="rId21"/>
              <a:stretch/>
            </p:blipFill>
            <p:spPr>
              <a:xfrm>
                <a:off x="7543800" y="5258160"/>
                <a:ext cx="676440" cy="7617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sp>
          <p:nvSpPr>
            <p:cNvPr id="116" name=""/>
            <p:cNvSpPr/>
            <p:nvPr/>
          </p:nvSpPr>
          <p:spPr>
            <a:xfrm rot="2766600">
              <a:off x="5067000" y="3314160"/>
              <a:ext cx="4373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996600"/>
                  </a:solidFill>
                  <a:latin typeface="Arial"/>
                </a:rPr>
                <a:t>LARGE Collection !!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5791320" cy="433692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279360"/>
            <a:ext cx="586728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 Lump Method (many samples)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0666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e developed the matrix-free lump method, which is O(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s)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583800">
            <a:off x="6975720" y="350496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GNIFIC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putat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2971800"/>
            <a:ext cx="228600" cy="2438280"/>
          </a:xfrm>
          <a:prstGeom prst="upDownArrow">
            <a:avLst>
              <a:gd name="adj1" fmla="val 50000"/>
              <a:gd name="adj2" fmla="val 2123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5263920"/>
            <a:ext cx="3200400" cy="673920"/>
          </a:xfrm>
          <a:prstGeom prst="leftArrow">
            <a:avLst>
              <a:gd name="adj1" fmla="val 50000"/>
              <a:gd name="adj2" fmla="val 11872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LUMP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428920"/>
            <a:ext cx="3200400" cy="674280"/>
          </a:xfrm>
          <a:prstGeom prst="leftArrow">
            <a:avLst>
              <a:gd name="adj1" fmla="val 50000"/>
              <a:gd name="adj2" fmla="val 118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33120"/>
            <a:ext cx="72388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The Adaptive Method (large-size samples)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066680"/>
            <a:ext cx="815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he adaptive algorithm is also a matrix-free PCA method that is O(n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Ns).  However, the adaptive method allows for the snapshots to be read and analyzed in small portions.  Because the entire snapshots do not need to be stored, this saves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80880" y="236232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rot="21583800">
            <a:off x="6708960" y="3429000"/>
            <a:ext cx="195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UCH L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QUI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324480" y="2819520"/>
            <a:ext cx="228600" cy="2438280"/>
          </a:xfrm>
          <a:prstGeom prst="upDownArrow">
            <a:avLst>
              <a:gd name="adj1" fmla="val 50000"/>
              <a:gd name="adj2" fmla="val 21233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00600" y="2320920"/>
            <a:ext cx="3200400" cy="674280"/>
          </a:xfrm>
          <a:prstGeom prst="leftArrow">
            <a:avLst>
              <a:gd name="adj1" fmla="val 50000"/>
              <a:gd name="adj2" fmla="val 11866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VENTIONAL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00600" y="5140080"/>
            <a:ext cx="3200400" cy="673920"/>
          </a:xfrm>
          <a:prstGeom prst="leftArrow">
            <a:avLst>
              <a:gd name="adj1" fmla="val 50000"/>
              <a:gd name="adj2" fmla="val 118723"/>
            </a:avLst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UR ADAPTIVE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NA Microarray Data Imag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657600"/>
            <a:ext cx="5867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vailable from Stanford Microarray Database (genome-www5.stanford.e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gene is expressed at a specific grid location in the microarray images.  Intensity of the image at the grid location shows amount of response (green – minimal response;  yellow – average response; red – maximal response).  Some genes from tumorous samples will express themselves differently than the same genes from normal tissue sam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 extracted from database in tabular form, rather than processing the raw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33520" y="990720"/>
            <a:ext cx="5181120" cy="5410080"/>
            <a:chOff x="533520" y="990720"/>
            <a:chExt cx="5181120" cy="5410080"/>
          </a:xfrm>
        </p:grpSpPr>
        <p:graphicFrame>
          <p:nvGraphicFramePr>
            <p:cNvPr id="134" name=""/>
            <p:cNvGraphicFramePr/>
            <p:nvPr/>
          </p:nvGraphicFramePr>
          <p:xfrm>
            <a:off x="533520" y="990720"/>
            <a:ext cx="1868400" cy="541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86840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6" name=""/>
            <p:cNvSpPr/>
            <p:nvPr/>
          </p:nvSpPr>
          <p:spPr>
            <a:xfrm>
              <a:off x="1326600" y="1464120"/>
              <a:ext cx="632520" cy="608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59480" y="1531440"/>
              <a:ext cx="1454400" cy="473400"/>
            </a:xfrm>
            <a:prstGeom prst="rightArrow">
              <a:avLst>
                <a:gd name="adj1" fmla="val 50000"/>
                <a:gd name="adj2" fmla="val 7680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8" name=""/>
            <p:cNvGraphicFramePr/>
            <p:nvPr/>
          </p:nvGraphicFramePr>
          <p:xfrm>
            <a:off x="3540600" y="1058400"/>
            <a:ext cx="2174040" cy="236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0600" y="1058400"/>
                      <a:ext cx="2174040" cy="23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Liv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1143000"/>
            <a:ext cx="8534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analysis was obtained from Chen, Xin, et. al, “Gene Expression Patterns in Human Liver Cancers”, Molecular Biology of the Cell, Vol. 13, 1929-1939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 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5 primary liver tum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20 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5881" t="0" r="5881" b="0"/>
          <a:stretch/>
        </p:blipFill>
        <p:spPr>
          <a:xfrm>
            <a:off x="76320" y="1212840"/>
            <a:ext cx="5562360" cy="53402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5638680" y="1676520"/>
            <a:ext cx="3353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morous tissue samples (1 - 1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tissue samples (106 - 1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component analysis performed 100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incipal component was extracted using 85 tumorous tissue samples (selected at rand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shows the projections of the samples onto the principal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s for normal tissue samples are almost always neg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4:23:25Z</dcterms:created>
  <dc:creator>Dave and Jane</dc:creator>
  <dc:description/>
  <dc:language>en-US</dc:language>
  <cp:lastModifiedBy>David Peterson</cp:lastModifiedBy>
  <dcterms:modified xsi:type="dcterms:W3CDTF">2004-04-29T23:25:18Z</dcterms:modified>
  <cp:revision>19</cp:revision>
  <dc:subject/>
  <dc:title>Fast and Tractable Disease Detection Technique Using Principal Component Analysis      David Peterson &amp; Michael Voidance Advisor:  Dr. Charles H. Lee  Department of Mathematics California State University Fullerton</dc:title>
</cp:coreProperties>
</file>