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75960"/>
            <a:ext cx="5867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562720" y="160200"/>
            <a:ext cx="3581280" cy="98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51400" y="6202440"/>
            <a:ext cx="12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DF64A00-66AC-4643-9CBF-85392B62E7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320" y="63360"/>
            <a:ext cx="1066680" cy="6987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6" name="deptofmathematics" descr=""/>
          <p:cNvPicPr/>
          <p:nvPr/>
        </p:nvPicPr>
        <p:blipFill>
          <a:blip r:embed="rId4"/>
          <a:stretch/>
        </p:blipFill>
        <p:spPr>
          <a:xfrm>
            <a:off x="0" y="6539040"/>
            <a:ext cx="2286000" cy="318960"/>
          </a:xfrm>
          <a:prstGeom prst="rect">
            <a:avLst/>
          </a:prstGeom>
          <a:ln w="0">
            <a:noFill/>
          </a:ln>
        </p:spPr>
      </p:pic>
      <p:pic>
        <p:nvPicPr>
          <p:cNvPr id="7" name="deptofmathematics" descr=""/>
          <p:cNvPicPr/>
          <p:nvPr/>
        </p:nvPicPr>
        <p:blipFill>
          <a:blip r:embed="rId5"/>
          <a:stretch/>
        </p:blipFill>
        <p:spPr>
          <a:xfrm>
            <a:off x="2286000" y="6539040"/>
            <a:ext cx="2286000" cy="318960"/>
          </a:xfrm>
          <a:prstGeom prst="rect">
            <a:avLst/>
          </a:prstGeom>
          <a:ln w="0">
            <a:noFill/>
          </a:ln>
        </p:spPr>
      </p:pic>
      <p:pic>
        <p:nvPicPr>
          <p:cNvPr id="8" name="deptofmathematics" descr=""/>
          <p:cNvPicPr/>
          <p:nvPr/>
        </p:nvPicPr>
        <p:blipFill>
          <a:blip r:embed="rId6"/>
          <a:stretch/>
        </p:blipFill>
        <p:spPr>
          <a:xfrm>
            <a:off x="6858000" y="6539040"/>
            <a:ext cx="2286000" cy="318960"/>
          </a:xfrm>
          <a:prstGeom prst="rect">
            <a:avLst/>
          </a:prstGeom>
          <a:ln w="0">
            <a:noFill/>
          </a:ln>
        </p:spPr>
      </p:pic>
      <p:pic>
        <p:nvPicPr>
          <p:cNvPr id="9" name="deptofmathematics" descr=""/>
          <p:cNvPicPr/>
          <p:nvPr/>
        </p:nvPicPr>
        <p:blipFill>
          <a:blip r:embed="rId7"/>
          <a:stretch/>
        </p:blipFill>
        <p:spPr>
          <a:xfrm>
            <a:off x="4572000" y="6539040"/>
            <a:ext cx="2286000" cy="3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Fast and Tractable Disease Detection Technique Using Principal Component Analysi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90920" y="52574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David Peterson &amp; Michael Vodhanel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Advisor:  Dr. Charles H. 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Normal Distribution Curves </a:t>
            </a:r>
            <a:br>
              <a:rPr sz="2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Liv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1752480"/>
            <a:ext cx="28958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stics generated for normal and tumorous tissue samp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tended to be normally distribu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distribution curves are shown he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projection is positive, sample is almost certainly tumoro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projection is negative, there is approximately a 25% chance that the sample is tumoro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liver_normalDist1" descr=""/>
          <p:cNvPicPr/>
          <p:nvPr/>
        </p:nvPicPr>
        <p:blipFill>
          <a:blip r:embed="rId1"/>
          <a:srcRect l="5207" t="2776" r="7294" b="2776"/>
          <a:stretch/>
        </p:blipFill>
        <p:spPr>
          <a:xfrm>
            <a:off x="152280" y="1143000"/>
            <a:ext cx="59436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Principal Component Analysis techniques to DNA microarray data can be used as a basis for simple disease detection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thod was demonstrated using data from Chen’s liver cancer study, although the method is general and could be applied to any type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se study presented in this analysis showed that the method could be prone to false negatives;  i.e., in the Chen liver cancer study 25% of the tumorous samples had negative pro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reliability of the method might be achieved by including more components, other than just the principal component, in the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410080"/>
            <a:ext cx="8382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Acknowledgement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: This research was funded by the California State University Fullerton Faculty Research Program and by the State Special Fund for Research, Scholarly, and Creative Activities.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Dr. Charles H. Lee and David Peterson would like to  thank Prof. 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  <a:ea typeface="Arial"/>
              </a:rPr>
              <a:t>Janey Youngblom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 (CSU Stanislaus) for introducing us to DNA Microarrays through the DNA Microarray Workshop sponsored by the California State University Program for Education and Research in Biotechnology (CSUPER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517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blem Description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DNA microarray data from diseased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Principal Component Analysis (PCA) techniques to extract the primary component of the diseased samples (captures the diseased fea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imple disease detection tests by finding the projection of arbitrary samples onto the princip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144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638680" y="4419720"/>
            <a:ext cx="3429000" cy="2057400"/>
            <a:chOff x="5638680" y="4419720"/>
            <a:chExt cx="3429000" cy="2057400"/>
          </a:xfrm>
        </p:grpSpPr>
        <p:pic>
          <p:nvPicPr>
            <p:cNvPr id="52" name="ph01645j" descr=""/>
            <p:cNvPicPr/>
            <p:nvPr/>
          </p:nvPicPr>
          <p:blipFill>
            <a:blip r:embed="rId1"/>
            <a:stretch/>
          </p:blipFill>
          <p:spPr>
            <a:xfrm>
              <a:off x="6400800" y="5257800"/>
              <a:ext cx="668160" cy="914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3" name="bd05011_" descr=""/>
            <p:cNvPicPr/>
            <p:nvPr/>
          </p:nvPicPr>
          <p:blipFill>
            <a:blip r:embed="rId2"/>
            <a:stretch/>
          </p:blipFill>
          <p:spPr>
            <a:xfrm>
              <a:off x="5638680" y="5791320"/>
              <a:ext cx="590760" cy="685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" name="bd07248_" descr=""/>
            <p:cNvPicPr/>
            <p:nvPr/>
          </p:nvPicPr>
          <p:blipFill>
            <a:blip r:embed="rId3"/>
            <a:stretch/>
          </p:blipFill>
          <p:spPr>
            <a:xfrm>
              <a:off x="7696080" y="4724280"/>
              <a:ext cx="59544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" name=""/>
            <p:cNvSpPr/>
            <p:nvPr/>
          </p:nvSpPr>
          <p:spPr>
            <a:xfrm>
              <a:off x="7467480" y="4419720"/>
              <a:ext cx="1600200" cy="1295280"/>
            </a:xfrm>
            <a:prstGeom prst="cloudCallout">
              <a:avLst>
                <a:gd name="adj1" fmla="val -77282"/>
                <a:gd name="adj2" fmla="val 2132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bd07248_" descr=""/>
            <p:cNvPicPr/>
            <p:nvPr/>
          </p:nvPicPr>
          <p:blipFill>
            <a:blip r:embed="rId4"/>
            <a:stretch/>
          </p:blipFill>
          <p:spPr>
            <a:xfrm>
              <a:off x="5638680" y="4952880"/>
              <a:ext cx="59544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5638680" y="1219320"/>
            <a:ext cx="3124440" cy="3047760"/>
            <a:chOff x="5638680" y="1219320"/>
            <a:chExt cx="3124440" cy="3047760"/>
          </a:xfrm>
        </p:grpSpPr>
        <p:grpSp>
          <p:nvGrpSpPr>
            <p:cNvPr id="58" name=""/>
            <p:cNvGrpSpPr/>
            <p:nvPr/>
          </p:nvGrpSpPr>
          <p:grpSpPr>
            <a:xfrm>
              <a:off x="5638680" y="1219320"/>
              <a:ext cx="3124440" cy="3047760"/>
              <a:chOff x="5638680" y="1219320"/>
              <a:chExt cx="3124440" cy="3047760"/>
            </a:xfrm>
          </p:grpSpPr>
          <p:pic>
            <p:nvPicPr>
              <p:cNvPr id="59" name="bd07248_" descr=""/>
              <p:cNvPicPr/>
              <p:nvPr/>
            </p:nvPicPr>
            <p:blipFill>
              <a:blip r:embed="rId5"/>
              <a:stretch/>
            </p:blipFill>
            <p:spPr>
              <a:xfrm>
                <a:off x="5791320" y="1295280"/>
                <a:ext cx="595080" cy="669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0" name="bd07248_" descr=""/>
              <p:cNvPicPr/>
              <p:nvPr/>
            </p:nvPicPr>
            <p:blipFill>
              <a:blip r:embed="rId6"/>
              <a:stretch/>
            </p:blipFill>
            <p:spPr>
              <a:xfrm>
                <a:off x="8001000" y="1295280"/>
                <a:ext cx="595440" cy="669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1" name="bd07248_" descr=""/>
              <p:cNvPicPr/>
              <p:nvPr/>
            </p:nvPicPr>
            <p:blipFill>
              <a:blip r:embed="rId7"/>
              <a:stretch/>
            </p:blipFill>
            <p:spPr>
              <a:xfrm>
                <a:off x="6629400" y="1295280"/>
                <a:ext cx="595440" cy="669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2" name="bd07248_" descr=""/>
              <p:cNvPicPr/>
              <p:nvPr/>
            </p:nvPicPr>
            <p:blipFill>
              <a:blip r:embed="rId8"/>
              <a:stretch/>
            </p:blipFill>
            <p:spPr>
              <a:xfrm>
                <a:off x="6934320" y="3505320"/>
                <a:ext cx="595080" cy="669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6171840" y="2666880"/>
                <a:ext cx="221076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ncipal Component Analy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8880" y="2133720"/>
                <a:ext cx="0" cy="45720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238880" y="2971800"/>
                <a:ext cx="0" cy="45720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38680" y="1219320"/>
                <a:ext cx="3124440" cy="3047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7318800" y="1241280"/>
              <a:ext cx="50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51920" y="1219320"/>
            <a:ext cx="4419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begin with a series of “snapshot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14300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Mathematics of the PCA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90720" y="3429000"/>
                <a:ext cx="2057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66680" y="1752480"/>
                <a:ext cx="1067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</m:d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90720" y="5486400"/>
                <a:ext cx="36892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52280" y="236232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the principal compone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linear combination of the snapshot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weighting facto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3434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eighting factors can be shown to be the components of the primary eigenvector of the covariance matri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i,j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onent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efined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105520" y="1143000"/>
            <a:ext cx="2805120" cy="3032280"/>
            <a:chOff x="5105520" y="1143000"/>
            <a:chExt cx="2805120" cy="3032280"/>
          </a:xfrm>
        </p:grpSpPr>
        <p:pic>
          <p:nvPicPr>
            <p:cNvPr id="76" name="bd07248_" descr=""/>
            <p:cNvPicPr/>
            <p:nvPr/>
          </p:nvPicPr>
          <p:blipFill>
            <a:blip r:embed="rId1"/>
            <a:stretch/>
          </p:blipFill>
          <p:spPr>
            <a:xfrm>
              <a:off x="6248520" y="3505320"/>
              <a:ext cx="59508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7" name="bd07248_" descr=""/>
            <p:cNvPicPr/>
            <p:nvPr/>
          </p:nvPicPr>
          <p:blipFill>
            <a:blip r:embed="rId2"/>
            <a:stretch/>
          </p:blipFill>
          <p:spPr>
            <a:xfrm>
              <a:off x="5105520" y="1197000"/>
              <a:ext cx="59508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8" name="bd07248_" descr=""/>
            <p:cNvPicPr/>
            <p:nvPr/>
          </p:nvPicPr>
          <p:blipFill>
            <a:blip r:embed="rId3"/>
            <a:stretch/>
          </p:blipFill>
          <p:spPr>
            <a:xfrm>
              <a:off x="7315200" y="1197000"/>
              <a:ext cx="59544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9" name="bd07248_" descr=""/>
            <p:cNvPicPr/>
            <p:nvPr/>
          </p:nvPicPr>
          <p:blipFill>
            <a:blip r:embed="rId4"/>
            <a:stretch/>
          </p:blipFill>
          <p:spPr>
            <a:xfrm>
              <a:off x="5943600" y="1197000"/>
              <a:ext cx="59544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0" name=""/>
            <p:cNvSpPr/>
            <p:nvPr/>
          </p:nvSpPr>
          <p:spPr>
            <a:xfrm>
              <a:off x="6633000" y="1143000"/>
              <a:ext cx="50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72200" y="2438280"/>
              <a:ext cx="76212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4120" y="190512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72200" y="19051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933960" y="190512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5308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6400800" y="2543040"/>
                  <a:ext cx="41760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87" name=""/>
            <p:cNvSpPr/>
            <p:nvPr/>
          </p:nvSpPr>
          <p:spPr>
            <a:xfrm>
              <a:off x="7248600" y="2057400"/>
              <a:ext cx="45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84880" y="20574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54640" y="190512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279360"/>
            <a:ext cx="586728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omputational Problem for PCA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9907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ventional POD method is O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 is the snapshot siz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s is the number of snapsho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d07248_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3575160" cy="402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81960" y="2406600"/>
            <a:ext cx="36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nome-scale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648320" y="1837080"/>
            <a:ext cx="4353120" cy="4182840"/>
            <a:chOff x="4648320" y="1837080"/>
            <a:chExt cx="4353120" cy="4182840"/>
          </a:xfrm>
        </p:grpSpPr>
        <p:grpSp>
          <p:nvGrpSpPr>
            <p:cNvPr id="95" name=""/>
            <p:cNvGrpSpPr/>
            <p:nvPr/>
          </p:nvGrpSpPr>
          <p:grpSpPr>
            <a:xfrm>
              <a:off x="4648320" y="2362320"/>
              <a:ext cx="3571920" cy="3657600"/>
              <a:chOff x="4648320" y="2362320"/>
              <a:chExt cx="3571920" cy="3657600"/>
            </a:xfrm>
          </p:grpSpPr>
          <p:pic>
            <p:nvPicPr>
              <p:cNvPr id="96" name="bd07248_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8320" y="2362320"/>
                <a:ext cx="67644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97" name="bd07248_" descr=""/>
              <p:cNvPicPr/>
              <p:nvPr/>
            </p:nvPicPr>
            <p:blipFill>
              <a:blip r:embed="rId3"/>
              <a:stretch/>
            </p:blipFill>
            <p:spPr>
              <a:xfrm>
                <a:off x="4800600" y="2514960"/>
                <a:ext cx="676440" cy="761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98" name="bd07248_" descr=""/>
              <p:cNvPicPr/>
              <p:nvPr/>
            </p:nvPicPr>
            <p:blipFill>
              <a:blip r:embed="rId4"/>
              <a:stretch/>
            </p:blipFill>
            <p:spPr>
              <a:xfrm>
                <a:off x="4953240" y="2667240"/>
                <a:ext cx="67608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99" name="bd07248_" descr=""/>
              <p:cNvPicPr/>
              <p:nvPr/>
            </p:nvPicPr>
            <p:blipFill>
              <a:blip r:embed="rId5"/>
              <a:stretch/>
            </p:blipFill>
            <p:spPr>
              <a:xfrm>
                <a:off x="5105520" y="2819520"/>
                <a:ext cx="67644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0" name="bd07248_" descr=""/>
              <p:cNvPicPr/>
              <p:nvPr/>
            </p:nvPicPr>
            <p:blipFill>
              <a:blip r:embed="rId6"/>
              <a:stretch/>
            </p:blipFill>
            <p:spPr>
              <a:xfrm>
                <a:off x="5257800" y="2972160"/>
                <a:ext cx="676440" cy="761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1" name="bd07248_" descr=""/>
              <p:cNvPicPr/>
              <p:nvPr/>
            </p:nvPicPr>
            <p:blipFill>
              <a:blip r:embed="rId7"/>
              <a:stretch/>
            </p:blipFill>
            <p:spPr>
              <a:xfrm>
                <a:off x="5410440" y="3124440"/>
                <a:ext cx="67608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2" name="bd07248_" descr=""/>
              <p:cNvPicPr/>
              <p:nvPr/>
            </p:nvPicPr>
            <p:blipFill>
              <a:blip r:embed="rId8"/>
              <a:stretch/>
            </p:blipFill>
            <p:spPr>
              <a:xfrm>
                <a:off x="5562720" y="3276720"/>
                <a:ext cx="67644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3" name="bd07248_" descr=""/>
              <p:cNvPicPr/>
              <p:nvPr/>
            </p:nvPicPr>
            <p:blipFill>
              <a:blip r:embed="rId9"/>
              <a:stretch/>
            </p:blipFill>
            <p:spPr>
              <a:xfrm>
                <a:off x="5715000" y="3429360"/>
                <a:ext cx="676440" cy="761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4" name="bd07248_" descr=""/>
              <p:cNvPicPr/>
              <p:nvPr/>
            </p:nvPicPr>
            <p:blipFill>
              <a:blip r:embed="rId10"/>
              <a:stretch/>
            </p:blipFill>
            <p:spPr>
              <a:xfrm>
                <a:off x="5867640" y="3581640"/>
                <a:ext cx="67608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5" name="bd07248_" descr=""/>
              <p:cNvPicPr/>
              <p:nvPr/>
            </p:nvPicPr>
            <p:blipFill>
              <a:blip r:embed="rId11"/>
              <a:stretch/>
            </p:blipFill>
            <p:spPr>
              <a:xfrm>
                <a:off x="6019920" y="3733920"/>
                <a:ext cx="67644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6" name="bd07248_" descr=""/>
              <p:cNvPicPr/>
              <p:nvPr/>
            </p:nvPicPr>
            <p:blipFill>
              <a:blip r:embed="rId12"/>
              <a:stretch/>
            </p:blipFill>
            <p:spPr>
              <a:xfrm>
                <a:off x="6172200" y="3886560"/>
                <a:ext cx="676440" cy="761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7" name="bd07248_" descr=""/>
              <p:cNvPicPr/>
              <p:nvPr/>
            </p:nvPicPr>
            <p:blipFill>
              <a:blip r:embed="rId13"/>
              <a:stretch/>
            </p:blipFill>
            <p:spPr>
              <a:xfrm>
                <a:off x="6324840" y="4038840"/>
                <a:ext cx="67608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8" name="bd07248_" descr=""/>
              <p:cNvPicPr/>
              <p:nvPr/>
            </p:nvPicPr>
            <p:blipFill>
              <a:blip r:embed="rId14"/>
              <a:stretch/>
            </p:blipFill>
            <p:spPr>
              <a:xfrm>
                <a:off x="6477120" y="4191120"/>
                <a:ext cx="67644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9" name="bd07248_" descr=""/>
              <p:cNvPicPr/>
              <p:nvPr/>
            </p:nvPicPr>
            <p:blipFill>
              <a:blip r:embed="rId15"/>
              <a:stretch/>
            </p:blipFill>
            <p:spPr>
              <a:xfrm>
                <a:off x="6629400" y="4343760"/>
                <a:ext cx="676440" cy="761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10" name="bd07248_" descr=""/>
              <p:cNvPicPr/>
              <p:nvPr/>
            </p:nvPicPr>
            <p:blipFill>
              <a:blip r:embed="rId16"/>
              <a:stretch/>
            </p:blipFill>
            <p:spPr>
              <a:xfrm>
                <a:off x="6782040" y="4496040"/>
                <a:ext cx="67608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11" name="bd07248_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34320" y="4648320"/>
                <a:ext cx="67644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12" name="bd07248_" descr=""/>
              <p:cNvPicPr/>
              <p:nvPr/>
            </p:nvPicPr>
            <p:blipFill>
              <a:blip r:embed="rId18"/>
              <a:stretch/>
            </p:blipFill>
            <p:spPr>
              <a:xfrm>
                <a:off x="7086600" y="4800960"/>
                <a:ext cx="676440" cy="761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13" name="bd07248_" descr=""/>
              <p:cNvPicPr/>
              <p:nvPr/>
            </p:nvPicPr>
            <p:blipFill>
              <a:blip r:embed="rId19"/>
              <a:stretch/>
            </p:blipFill>
            <p:spPr>
              <a:xfrm>
                <a:off x="7239240" y="4953240"/>
                <a:ext cx="67608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14" name="bd07248_" descr=""/>
              <p:cNvPicPr/>
              <p:nvPr/>
            </p:nvPicPr>
            <p:blipFill>
              <a:blip r:embed="rId20"/>
              <a:stretch/>
            </p:blipFill>
            <p:spPr>
              <a:xfrm>
                <a:off x="7391520" y="5105520"/>
                <a:ext cx="67644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15" name="bd07248_" descr=""/>
              <p:cNvPicPr/>
              <p:nvPr/>
            </p:nvPicPr>
            <p:blipFill>
              <a:blip r:embed="rId21"/>
              <a:stretch/>
            </p:blipFill>
            <p:spPr>
              <a:xfrm>
                <a:off x="7543800" y="5258160"/>
                <a:ext cx="676440" cy="761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16" name=""/>
            <p:cNvSpPr/>
            <p:nvPr/>
          </p:nvSpPr>
          <p:spPr>
            <a:xfrm rot="2766600">
              <a:off x="5067000" y="3314160"/>
              <a:ext cx="437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00"/>
                  </a:solidFill>
                  <a:latin typeface="Arial"/>
                </a:rPr>
                <a:t>LARGE Collection !!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5791320" cy="4336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279360"/>
            <a:ext cx="586728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The Lump Method (many samples)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0666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 developed the matrix-free lump method, which is O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s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1583800">
            <a:off x="6975720" y="350496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2971800"/>
            <a:ext cx="228600" cy="2438280"/>
          </a:xfrm>
          <a:prstGeom prst="upDownArrow">
            <a:avLst>
              <a:gd name="adj1" fmla="val 50000"/>
              <a:gd name="adj2" fmla="val 2123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5263920"/>
            <a:ext cx="3200400" cy="673920"/>
          </a:xfrm>
          <a:prstGeom prst="leftArrow">
            <a:avLst>
              <a:gd name="adj1" fmla="val 50000"/>
              <a:gd name="adj2" fmla="val 118723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R LUMP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2428920"/>
            <a:ext cx="3200400" cy="674280"/>
          </a:xfrm>
          <a:prstGeom prst="leftArrow">
            <a:avLst>
              <a:gd name="adj1" fmla="val 50000"/>
              <a:gd name="adj2" fmla="val 1186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VENTIONAL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3120"/>
            <a:ext cx="72388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The Adaptive Method (large-size samples)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066680"/>
            <a:ext cx="815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aptive algorithm is also a matrix-free PCA method that is O(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Ns).  However, the adaptive method allows for the snapshots to be read and analyzed in small portions.  Because the entire snapshots do not need to be stored, this saves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800600" cy="3595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21583800">
            <a:off x="6708960" y="3429000"/>
            <a:ext cx="195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CH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2819520"/>
            <a:ext cx="228600" cy="2438280"/>
          </a:xfrm>
          <a:prstGeom prst="upDownArrow">
            <a:avLst>
              <a:gd name="adj1" fmla="val 50000"/>
              <a:gd name="adj2" fmla="val 2123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2320920"/>
            <a:ext cx="3200400" cy="674280"/>
          </a:xfrm>
          <a:prstGeom prst="leftArrow">
            <a:avLst>
              <a:gd name="adj1" fmla="val 50000"/>
              <a:gd name="adj2" fmla="val 1186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VENTIONAL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5140080"/>
            <a:ext cx="3200400" cy="673920"/>
          </a:xfrm>
          <a:prstGeom prst="leftArrow">
            <a:avLst>
              <a:gd name="adj1" fmla="val 50000"/>
              <a:gd name="adj2" fmla="val 118723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R ADAPTIVE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DNA Microarray Data Image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657600"/>
            <a:ext cx="58676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available from Stanford Microarray Database (genome-www5.stanford.edu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gene is expressed at a specific grid location in the microarray images.  Intensity of the image at the grid location shows amount of response (green – minimal response;  yellow – average response; red – maximal response).  Some genes from tumorous samples will express themselves differently than the same genes from normal tissue samp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is extracted from database in tabular form, rather than processing the raw im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3520" y="990720"/>
            <a:ext cx="5181120" cy="5410080"/>
            <a:chOff x="533520" y="990720"/>
            <a:chExt cx="5181120" cy="5410080"/>
          </a:xfrm>
        </p:grpSpPr>
        <p:graphicFrame>
          <p:nvGraphicFramePr>
            <p:cNvPr id="134" name=""/>
            <p:cNvGraphicFramePr/>
            <p:nvPr/>
          </p:nvGraphicFramePr>
          <p:xfrm>
            <a:off x="533520" y="990720"/>
            <a:ext cx="1868400" cy="541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990720"/>
                      <a:ext cx="1868400" cy="541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1326600" y="1464120"/>
              <a:ext cx="632520" cy="6084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59480" y="1531440"/>
              <a:ext cx="1454400" cy="473400"/>
            </a:xfrm>
            <a:prstGeom prst="rightArrow">
              <a:avLst>
                <a:gd name="adj1" fmla="val 50000"/>
                <a:gd name="adj2" fmla="val 7680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8" name=""/>
            <p:cNvGraphicFramePr/>
            <p:nvPr/>
          </p:nvGraphicFramePr>
          <p:xfrm>
            <a:off x="3540600" y="1058400"/>
            <a:ext cx="2174040" cy="2366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40600" y="1058400"/>
                      <a:ext cx="2174040" cy="236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hen Liver Cancer Case Study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143000"/>
            <a:ext cx="8534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 analysis was obtained from Chen, Xin, et. al, “Gene Expression Patterns in Human Liver Cancers”, Molecular Biology of the Cell, Vol. 13, 1929-1939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provided DNA data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6 no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ssue sa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5 primary liver tum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20 ge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re extra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for a gene to be included in this analysis, data for that gene had to be present in at least 80% of the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sample is missing data for a particular gene, the value was imputed by using the mean of the values from the remaining s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759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jections Onto The Principal Component</a:t>
            </a:r>
            <a:br>
              <a:rPr sz="2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Liv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5881" t="0" r="5881" b="0"/>
          <a:stretch/>
        </p:blipFill>
        <p:spPr>
          <a:xfrm>
            <a:off x="76320" y="1212840"/>
            <a:ext cx="5562360" cy="5340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38680" y="1676520"/>
            <a:ext cx="33530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morous tissue samples (1 - 1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tissue samples (106 - 18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component analysis performed 100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rincipal component was extracted using 85 tumorous tissue samples (selected at rand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shows the projections of the samples onto the principal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ions for normal tissue samples are almost always negati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4:23:25Z</dcterms:created>
  <dc:creator>Dave and Jane</dc:creator>
  <dc:description/>
  <dc:language>en-US</dc:language>
  <cp:lastModifiedBy>David Peterson</cp:lastModifiedBy>
  <dcterms:modified xsi:type="dcterms:W3CDTF">2004-04-29T23:27:03Z</dcterms:modified>
  <cp:revision>20</cp:revision>
  <dc:subject/>
  <dc:title>Fast and Tractable Disease Detection Technique Using Principal Component Analysis      David Peterson &amp; Michael Voidance Advisor:  Dr. Charles H. Lee  Department of Mathematics California State University Fullerton</dc:title>
</cp:coreProperties>
</file>