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730-427C-4EA3-BCA2-37A68EECD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5D1-75EC-426F-B0CA-481E227C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91D-DD30-4469-B048-9DA9D2226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2C00-538F-4D48-B4A0-190C2CF8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5386-E150-4D4A-A93B-368C1F9D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AD0E-158A-48F5-9D7E-15D5BE00B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EA90-F113-470A-AE13-A664F6AB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1CE-8255-4FC6-8B8E-F349828A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0F78-83DC-48D8-BFF4-7CEB4B48B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764A-C64E-46A6-B644-6C715CC1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6180-E423-4806-BEE6-A81F7402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23A-9A33-4E6E-B010-9BC8C9F4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D560-4E77-4C7E-8AAF-39A525968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n Bladder Cancer Data – Projections onto Principal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liver_projection1_random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n Bladder Cancer Data – Projections onto Component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liver_projection2_random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n Bladder Cancer Data – Normal percentile plot – Projections onto Componen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ladder_checkNormal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n Bladder Cancer Data – Normal percentile plot – Projections onto Componen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bladderr_checkNormal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n Bladder Cancer Data – Normal Distribution – Projection onto Component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3240" y="6281640"/>
            <a:ext cx="6020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sample is tumorous, 40% chance that projection onto component 1 is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ladder_normalDist1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n Bladder Cancer Data – Normal Distribution – Projection onto Component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9960" y="6129360"/>
            <a:ext cx="631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sample is tumorous, 44% probability that projection onto component 2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bladder_normalDist2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n Bladder Cancer Data – Normal percentile plot – Sum of Projections onto Component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ladder_checkNormalSum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en Bladder Cancer Data – Normal Distribution – Sum of Projections onto Components 1 and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000" y="6129360"/>
            <a:ext cx="742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 sample is tumorous, 39% probability that sum of projections onto component 1 and 2  is neg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bladder_normalDistSum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8:48:01Z</dcterms:created>
  <dc:creator>David Peterson</dc:creator>
  <dc:description/>
  <dc:language>en-US</dc:language>
  <cp:lastModifiedBy>David Peterson</cp:lastModifiedBy>
  <dcterms:modified xsi:type="dcterms:W3CDTF">2004-02-02T20:09:23Z</dcterms:modified>
  <cp:revision>4</cp:revision>
  <dc:subject/>
  <dc:title>Chen Liver Cancer Data – Projections onto Principal Component</dc:title>
</cp:coreProperties>
</file>